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2A332-49D5-45B9-9577-D6B860769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A3AB-DF12-4E98-B290-93629875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15B27-E2E0-4717-A429-499E32D98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1AF3D-DD97-4EA8-BC0F-A74B23A66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C7E8C-7934-4D38-9818-8DE24F13C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6BD72-DC4F-42A7-AB71-580F75C2D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E17BF-E0DD-42B3-A220-C402CFC46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BCBBC-8476-47D6-95F1-F141C9B17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D73B9-5561-4112-AE23-49A5B2A1A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A15EA-99EB-4DDB-94D5-9662B9A95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A049F-3910-4802-BC1E-7C041C74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437D3-EAE9-442E-B683-6E71F063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EEBBE-1485-40B7-A3BC-FF80D3379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833FF-527C-4D5D-8AF4-C4C80F711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A829C-3EF6-425B-BA01-18BC412A5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C2FE9-B779-412E-A3CB-A30B65C94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CB83B-5BBB-4E81-98D1-581A19941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494F5-1B9C-4BC2-B9FD-D6C8CB9AE8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7B2DA-A6DF-4A89-AA10-FCC4385FF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21776-A8B9-4133-B5C9-F34C9C8535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BCA2B-5663-4D29-8C4C-80627E8A8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444CD-6149-4942-A683-4A47D430F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221CD-1D43-4E2A-847E-6B06C4B6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1101C-168E-4967-BF07-66DFC6CBC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13173-854C-409B-A468-32DDECB45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9B056-09E9-414E-9237-B6DF9FE6B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60F14-D310-49E4-883F-C05F07997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BBBE4-C367-4806-B23B-EF686E310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E918AE-06BA-4477-96AB-9BA874562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931BC4-E637-4922-9FE8-E8F20D709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DA83-2D14-4FD4-A9FA-742D4F82F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7F7EA-7F7C-45A6-A111-A8E32DCA4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7C747-8550-4667-9874-C6782E924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B4DF-45CA-4B02-BE06-C855A3026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A7DA-C421-4B5B-ABF9-5C1562D4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E625-B8DE-454B-BAA8-3950E3C7C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6667560" y="4915080"/>
            <a:ext cx="2476440" cy="1942920"/>
          </a:xfrm>
          <a:prstGeom prst="rect">
            <a:avLst/>
          </a:prstGeom>
          <a:ln w="0">
            <a:noFill/>
          </a:ln>
        </p:spPr>
      </p:pic>
      <p:grpSp>
        <p:nvGrpSpPr>
          <p:cNvPr id="1" name="Rectangle 9"/>
          <p:cNvGrpSpPr/>
          <p:nvPr/>
        </p:nvGrpSpPr>
        <p:grpSpPr>
          <a:xfrm>
            <a:off x="-6480" y="-6480"/>
            <a:ext cx="9156960" cy="85680"/>
            <a:chOff x="-6480" y="-6480"/>
            <a:chExt cx="9156960" cy="85680"/>
          </a:xfrm>
        </p:grpSpPr>
        <p:pic>
          <p:nvPicPr>
            <p:cNvPr id="2" name="Rectangle 9" descr=""/>
            <p:cNvPicPr/>
            <p:nvPr/>
          </p:nvPicPr>
          <p:blipFill>
            <a:blip r:embed="rId3"/>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grpSp>
      <p:grpSp>
        <p:nvGrpSpPr>
          <p:cNvPr id="4" name="Rectangle 10"/>
          <p:cNvGrpSpPr/>
          <p:nvPr/>
        </p:nvGrpSpPr>
        <p:grpSpPr>
          <a:xfrm>
            <a:off x="-6480" y="36360"/>
            <a:ext cx="4584960" cy="79560"/>
            <a:chOff x="-6480" y="36360"/>
            <a:chExt cx="4584960" cy="79560"/>
          </a:xfrm>
        </p:grpSpPr>
        <p:pic>
          <p:nvPicPr>
            <p:cNvPr id="5" name="Rectangle 10" descr=""/>
            <p:cNvPicPr/>
            <p:nvPr/>
          </p:nvPicPr>
          <p:blipFill>
            <a:blip r:embed="rId4"/>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grpSp>
      <p:pic>
        <p:nvPicPr>
          <p:cNvPr id="7" name="Picture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02C4-5590-47CD-BA85-7C026DA17926}" type="slidenum">
              <a:rPr b="0" lang="en-AU"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B3E1-3DAD-4CFB-8A46-D002BF02EDEC}" type="slidenum">
              <a:rPr b="0" lang="en-AU"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A279-4F6E-4CEC-BBCB-84B0CECB5233}" type="slidenum">
              <a:rPr b="0" lang="en-AU"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INTRODUCTION</a:t>
            </a:r>
            <a:endParaRPr b="0" lang="en-US" sz="4400" spc="-1" strike="noStrike">
              <a:solidFill>
                <a:srgbClr val="001b36"/>
              </a:solidFill>
              <a:latin typeface="Maiandra GD"/>
            </a:endParaRPr>
          </a:p>
        </p:txBody>
      </p:sp>
      <p:sp>
        <p:nvSpPr>
          <p:cNvPr id="132" name=""/>
          <p:cNvSpPr txBox="1"/>
          <p:nvPr/>
        </p:nvSpPr>
        <p:spPr>
          <a:xfrm>
            <a:off x="357120" y="1357200"/>
            <a:ext cx="8229600" cy="4840560"/>
          </a:xfrm>
          <a:prstGeom prst="rect">
            <a:avLst/>
          </a:prstGeom>
          <a:noFill/>
          <a:ln w="0">
            <a:noFill/>
          </a:ln>
        </p:spPr>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mbria"/>
              </a:rPr>
              <a:t>In dot points outline the following</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mbria"/>
              </a:rPr>
              <a:t>	</a:t>
            </a:r>
            <a:r>
              <a:rPr b="1" lang="en-AU" sz="3000" spc="-1" strike="noStrike">
                <a:solidFill>
                  <a:srgbClr val="000000"/>
                </a:solidFill>
                <a:latin typeface="Cambria"/>
              </a:rPr>
              <a:t>* </a:t>
            </a:r>
            <a:r>
              <a:rPr b="0" lang="en-AU" sz="3000" spc="-1" strike="noStrike">
                <a:solidFill>
                  <a:srgbClr val="000000"/>
                </a:solidFill>
                <a:latin typeface="Cambria"/>
              </a:rPr>
              <a:t>Give a one line sentence outlining the background of the issue e.g. how it came about.</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u="sng">
                <a:solidFill>
                  <a:srgbClr val="000000"/>
                </a:solidFill>
                <a:uFillTx/>
                <a:latin typeface="Cambria"/>
              </a:rPr>
              <a:t>ARTICLE A</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mbria"/>
              </a:rPr>
              <a:t>* Source - date and title of article, where it was published and form of piece.</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mbria"/>
              </a:rPr>
              <a:t>* State the contention/stance.</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mbria"/>
              </a:rPr>
              <a:t>* What is the tone of the article and the effect of the tone?</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INTRODUCTION</a:t>
            </a:r>
            <a:endParaRPr b="0" lang="en-US" sz="4400" spc="-1" strike="noStrike">
              <a:solidFill>
                <a:srgbClr val="001b36"/>
              </a:solidFill>
              <a:latin typeface="Maiandra GD"/>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Cambria"/>
              </a:rPr>
              <a:t>ARTICLE B</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ource - date and title of article, where it was published and form of piece.</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tate the contention/stance.</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What is the tone of the article and the effect of the tone?</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BODY</a:t>
            </a:r>
            <a:endParaRPr b="0" lang="en-US" sz="4400" spc="-1" strike="noStrike">
              <a:solidFill>
                <a:srgbClr val="001b36"/>
              </a:solidFill>
              <a:latin typeface="Maiandra GD"/>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Remember that you must compare and contrast in paragraphs 3 and 4 . </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Work out what is </a:t>
            </a:r>
            <a:r>
              <a:rPr b="1" lang="en-AU" sz="3200" spc="-1" strike="noStrike">
                <a:solidFill>
                  <a:srgbClr val="000000"/>
                </a:solidFill>
                <a:latin typeface="Cambria"/>
              </a:rPr>
              <a:t>similar</a:t>
            </a:r>
            <a:r>
              <a:rPr b="0" lang="en-AU" sz="3200" spc="-1" strike="noStrike">
                <a:solidFill>
                  <a:srgbClr val="000000"/>
                </a:solidFill>
                <a:latin typeface="Cambria"/>
              </a:rPr>
              <a:t> (paragraph 3) </a:t>
            </a:r>
            <a:endParaRPr b="0" lang="en-US" sz="3200" spc="-1" strike="noStrike">
              <a:solidFill>
                <a:srgbClr val="000000"/>
              </a:solidFill>
              <a:latin typeface="Cambria"/>
            </a:endParaRPr>
          </a:p>
          <a:p>
            <a:pPr marL="343080" indent="-343080">
              <a:spcBef>
                <a:spcPts val="799"/>
              </a:spcBef>
              <a:buClr>
                <a:srgbClr val="477ab1"/>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Work out what is </a:t>
            </a:r>
            <a:r>
              <a:rPr b="1" lang="en-AU" sz="3200" spc="-1" strike="noStrike">
                <a:solidFill>
                  <a:srgbClr val="000000"/>
                </a:solidFill>
                <a:latin typeface="Cambria"/>
              </a:rPr>
              <a:t>different</a:t>
            </a:r>
            <a:r>
              <a:rPr b="0" lang="en-AU" sz="3200" spc="-1" strike="noStrike">
                <a:solidFill>
                  <a:srgbClr val="000000"/>
                </a:solidFill>
                <a:latin typeface="Cambria"/>
              </a:rPr>
              <a:t> (paragraph 4)</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PARAGRAPH 1</a:t>
            </a:r>
            <a:endParaRPr b="0" lang="en-US" sz="4400" spc="-1" strike="noStrike">
              <a:solidFill>
                <a:srgbClr val="001b36"/>
              </a:solidFill>
              <a:latin typeface="Maiandra GD"/>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Cambria"/>
              </a:rPr>
              <a:t>ARTICLE A</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tate the supporting arguments of this piece and link the persuasive device/s used to highlight the idea.</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Ensure you through ally discuss the effect of the persuasive devices used.</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PARAGRAH 2</a:t>
            </a:r>
            <a:endParaRPr b="0" lang="en-US" sz="4400" spc="-1" strike="noStrike">
              <a:solidFill>
                <a:srgbClr val="001b36"/>
              </a:solidFill>
              <a:latin typeface="Maiandra GD"/>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Cambria"/>
              </a:rPr>
              <a:t>ARTICLE B</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tate the supporting arguments of this piece and link the persuasive device/s used to highlight the idea.</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Ensure you thoroughly discuss the effect of the persuasive devices used.</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SYNTHESIS – PARAGRAPH 3</a:t>
            </a:r>
            <a:endParaRPr b="0" lang="en-US" sz="4400" spc="-1" strike="noStrike">
              <a:solidFill>
                <a:srgbClr val="001b36"/>
              </a:solidFill>
              <a:latin typeface="Maiandra GD"/>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mbria"/>
              </a:rPr>
              <a:t>SYNTHESIS FOR BOTH ARTICLES</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This is where you take both articles and discuss the SIMILARITIES of them. What do they have in common?</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SYNTHESIS – PARAGRAPH 4</a:t>
            </a:r>
            <a:endParaRPr b="0" lang="en-US" sz="4400" spc="-1" strike="noStrike">
              <a:solidFill>
                <a:srgbClr val="001b36"/>
              </a:solidFill>
              <a:latin typeface="Maiandra GD"/>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mbria"/>
              </a:rPr>
              <a:t>SYNTHESIS FOR BOTH ARTICLES</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 </a:t>
            </a:r>
            <a:r>
              <a:rPr b="0" lang="en-AU" sz="3200" spc="-1" strike="noStrike">
                <a:solidFill>
                  <a:srgbClr val="000000"/>
                </a:solidFill>
                <a:latin typeface="Cambria"/>
              </a:rPr>
              <a:t>This is where you take both articles and discuss the DIFFERENCE between them. </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CONCLUSION </a:t>
            </a:r>
            <a:endParaRPr b="0" lang="en-US" sz="4400" spc="-1" strike="noStrike">
              <a:solidFill>
                <a:srgbClr val="001b36"/>
              </a:solidFill>
              <a:latin typeface="Maiandra GD"/>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This is where you discuss the overall effectiveness of the articles. What worked well and what didn't work so well. How well did it achieve its purpose? What effect or impact does it have on the reader. Overall features that allowed it to be successful.</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5:52:26Z</dcterms:created>
  <dc:creator>Mirsadet</dc:creator>
  <dc:description/>
  <dc:language>en-US</dc:language>
  <cp:lastModifiedBy>Valued Acer Customer</cp:lastModifiedBy>
  <dcterms:modified xsi:type="dcterms:W3CDTF">2011-05-24T01:44:43Z</dcterms:modified>
  <cp:revision>9</cp:revision>
  <dc:subject/>
  <dc:title>INTRODUCTION</dc:title>
</cp:coreProperties>
</file>